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0A7-2173-4B5C-9A2B-DB73048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1AC-9F0F-4B1C-9C08-B466724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786-FE44-4F0B-A160-EFC4F81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4D7-D528-41DC-AC3B-A16AB62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53B8-9B11-42BE-91E8-00B5701E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957E4-615B-4DCD-BB8B-A931EDF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2942E-3D3D-40F0-ABCE-81706F6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6BB2-B6AD-49E1-A02E-8BFF929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F43D8-C836-43A8-BC68-69DC4871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B0915-F9FB-49DA-A512-661E521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B3FA-0CC1-404C-8F04-410812E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35A-ABFE-4D54-9919-00F88D9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3E339-6702-4F8E-B0D1-3D4F85D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06B86-A84D-4D37-95FA-1EA2A15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C02EE-DB06-4204-83EA-F0FAA41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4F884-2C3B-4132-A3D4-BD519820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5CE8-3E90-4284-8692-73B388B5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5EA-4BD4-4DF9-81AB-A3B27CD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4CA-08DA-4737-8B98-9AA7017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00E-E352-4577-A6E4-6C0B244F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39C-7D37-4C1F-9C66-2850934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92E-CA18-4462-9EEE-100AD42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ED0-5677-441F-B5EC-84A4243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894-B57A-437F-9A21-63FC2BE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42C6-FB16-4636-BE70-3594CCEEDB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7B9-6660-4EAE-BF17-67FE934C8D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erspectives-la.com/images/img.brainstorm.gif&amp;imgrefurl=http://perspectives-la.com/brainstorm.htm&amp;h=236&amp;w=200&amp;sz=8&amp;hl=en&amp;start=1&amp;tbnid=qXk79_GYGMN41M:&amp;tbnh=109&amp;tbnw=92&amp;prev=/images%3Fq%3Dbrainstorm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sponse to Interven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ola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The Three Tier Model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i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classified as Learning Disabled until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ree t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del is followed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provided to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ttle or no response to specific interven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is process can take as long as 18 wee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47" name="_s32774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2775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2776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Instruction in the General Educatio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ted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a variety of methods of present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le groupings of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a Help 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53" name="_s34822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3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4824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4572000"/>
              <a:ext cx="2286000" cy="99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 rot="20029800">
            <a:off x="2209320" y="4495320"/>
            <a:ext cx="3452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st students should be served he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518148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group instr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is on the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within the class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S Math / 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62" name="_s35846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35847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5848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3429000"/>
              <a:ext cx="2286000" cy="99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I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ed 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ve intervention and targeted to specific deficiency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requency and duration of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69" name="_s36870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36871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36872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286000"/>
              <a:ext cx="175248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note about CSE referrals…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SE referral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ation of Pre-referral Strategie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re-referral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needs to be done on our end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the roles and responsibilities of the 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tter syste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li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I &amp; tier III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and purcha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gr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help deliver tier II &amp; III interventions (e.g. “Read 180”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schedu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acilitate tier II &amp; III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’s Obj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ur collective knowledge, brainst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support that the students need as a result of the brainstorming from the IST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581280"/>
            <a:ext cx="19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77, the population of students labeled “learning disabled” in America has continuously risen almost 200%.  Because of this, the Department of Education was forced to look at the way we were determining how a student became “learning disabled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the past 30 years, Federal Regulations have used the “discrepancy model” to identify a child as disab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Discrepancy Model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acher or parent requested a child be 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 was given a battery of achievement (academic ability) and cognitive (IQ) te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esults were reviewed.  If it was found that a child had a large enough discrepancy between their potential (IQ) and their actual achievement then the child would be labeled learning disabl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aradigm Shift Begins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ing the ever growing number of special education students, the Department Of Education noted the “insanity” of continuing the sam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806800">
            <a:off x="2743560" y="419076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anity is continuing to do what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ve always done and expe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fferent res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 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EA (2004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(Individuals with Disabilities Education Act) was reauthorized in 2004.  Part of the reauthorization was a noted change in the way children would be identified as learning disab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Q discrepancy criterion is potentially harmful to students as it results in delaying intervention until the student’s achievement is sufficiently low so that the discrepancy is achieved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ssistance to States for the Education of Children with Disabilities, 200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es the 2004 law sa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EA 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th the stroke of his pen, George Bush has changed what traditionally has been limited to special education to a major factor in general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Re-Birth of the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s have been mandated to create Instructional Support Teams to guide the process of 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urpose of the IST is to develop interventions to assure the child remains in the general education classro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523880" cy="92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 Problem Solving Mode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the expertise of school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data that is readily available to school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s buy-in from teachers as stakeholders i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ed interventions makes evaluation very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itive “intervening time peri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repeated pract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5:08:52Z</dcterms:created>
  <dc:creator>wsmith</dc:creator>
  <dc:description/>
  <dc:language>en-US</dc:language>
  <cp:lastModifiedBy>setup</cp:lastModifiedBy>
  <dcterms:modified xsi:type="dcterms:W3CDTF">2011-09-19T17:37:50Z</dcterms:modified>
  <cp:revision>6</cp:revision>
  <dc:subject/>
  <dc:title>Slide 1</dc:title>
</cp:coreProperties>
</file>